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323-BD06-4B75-BE9C-BFD4F55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DF2-6CDB-4EAE-95CD-0690022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1D6-1920-446F-A7FE-2E16B592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E9A-054E-4AF8-84D8-C6F60D50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CF2-7CA7-4B64-8641-C0186315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195-0287-4961-B01F-F8CD095B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9A7A-6FCF-4330-8838-6C3E68A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AFE3-76EF-4795-B86F-2B777CC7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614-A5D1-4141-A504-4FBA86D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D2D8-AEE9-4F4B-A4CA-4F99252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B931-1C5B-40E7-ABC3-BA7BB5E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B9E-C77B-4D71-A3C8-2DF0DF6A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B7F8-17AC-4817-AC07-B47DD62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F50-5BB6-4D27-A64F-870015A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3C6-CC06-475E-90C4-8615D4F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250-A7EC-4F99-8882-5D03837E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6E2-B34F-415D-8E69-370CE20C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A73BF-D135-4D08-8681-4B7C5B0B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43AB-1EF4-47A8-83BF-D2C3F69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15496-DE61-4538-AD30-797ECA16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70A6C-7214-48D2-8866-CF9C7FFF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DCAB8-B34C-4154-B37F-770C978A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486-2ECC-4EAE-87AC-2A785E8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4338A-2591-4321-A981-AACC4CC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42C04-AF47-433A-A972-B118110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DAB23-C70D-47D5-ACCA-2EC2523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0AE6B-B6B8-4544-ACE3-5531F1F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F2DCA-92E0-4BFD-9CCE-865B28B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0F8B0-C047-475A-A146-7D4A3170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C68F9-B009-4BFD-9E4F-61480FA1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A6965-9129-4ADD-8807-B6AE9B3D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11B3B-6C2B-4E81-8C67-E2B96CB9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1F9B4-79F9-4B1C-9806-4C95663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B47-BAEB-4569-ACE2-A5D434A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3E56D-5CF3-49A3-85F2-F2151032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B4B6C-CB80-4DC4-8D93-9563E5F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DB781-A701-4A3C-B6ED-514DB87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80D5A-9DBC-4551-A7C9-57CD590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53377-33F9-4E5F-945A-01487B2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DBF80-5324-43E1-86DB-17CFCAF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81B85-CE24-4532-B5BB-324B8050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313D0-F671-4020-924C-D43C173D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F0348-E51C-420F-B415-2BC3598B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2B83B-7400-4623-9D42-F1755240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97E-C45B-4011-B310-11BEB8F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01DCE-49FF-4373-A073-9A06411A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E01E6-EBB4-4755-9C5D-7AA8B625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4E2BD-6E0C-4AB3-B219-DA2CCCF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31B81-FA46-40BA-8C29-4A78BAE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F5C07-8428-43F1-B919-C582ADD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F785B-F586-4BBA-B150-32107C5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E904C-A7E4-4E7B-85B6-5DB7788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1A976-9055-43B1-A993-FABAC13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E168F-A6C0-4763-AF29-15AA9BF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4ED60-5E31-4149-A560-9CFE70D9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628-536B-46C4-9344-D90432B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C0E7B-683F-457A-B1D5-8BE1A448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1F4A-6981-425E-B1A8-5E6BECA0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D1CE-EEC7-43DC-9D73-0E193CC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A60E8-DB08-45FC-9919-7663DF4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68A6-C4D0-4884-A53B-E74A9FE3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5BA0-1025-413A-BD2E-E0B44D29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3FAF-2107-46C2-9E3F-112EDD9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2540-C71C-4000-8BE8-39DFA43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5454-17F8-49D9-A209-F8C9522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B36C-EAFC-46D6-BF2C-A077E48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110-69F4-4BB9-AF5E-DE1CC45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C44E-DC42-43D8-B0BB-5963988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72B8-F507-4371-8CF6-FA994EFA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AB43-9E77-4A33-A230-03D412F8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7E5B0-998A-48D7-ABE6-4DB6A3D4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8005B-E80A-47B4-BFE1-B2821389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180FB-C41C-459E-AA39-2D634A15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B0281-D4B3-4A3D-A9D8-33C18912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1250E-9DDB-4F12-8165-A8F31D4B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6774B-8858-4C43-A9C5-21D8199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BC647-AD62-4979-BC99-4217A30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E16-E12A-443E-9890-35B7A51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959D5-6722-4BA9-BDB3-E392ADB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44E92-A3F2-41AD-965C-5FA807F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384B7-04D1-472C-8936-AC7F45F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34744-6399-478E-AFD9-3E229B7E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5FE56-5B78-49EA-81A3-C71E6FA2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12679-3771-4A38-B162-D50BAC3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37DE-660F-4652-83AD-093BAB0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EACE-449C-4403-B488-D2E4395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26895-32C4-40A8-ACBC-FF17FB33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E59C-9196-48EF-A852-8EC529CC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2B4-42A0-48C3-9C23-93DD6AC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EF84-BA68-4333-82F8-8ADF2888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DF8F-534C-417B-8824-7F61A96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1347B-E03F-45B0-9AD5-4B7193F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FF070-EAB6-455B-8359-1E67662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C95CF-B8BB-460A-952A-8BC5AFD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22D8D-40CA-47B9-A93B-F9F23C7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87C0-51EA-4AE8-9F92-517B8896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9C53-456B-4A65-BC4C-C9248A25DE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2D5-0536-4439-AF57-CF928757EB50}" type="slidenum">
              <a:rPr b="1" lang="en-US" sz="14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2A8-BF2A-4099-A2BD-F722DBFCF89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B4B4-EF18-4AF9-B82D-DD41968BE5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1E5-515A-4193-9150-5EC96DC1F9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A3E-9494-40C6-AADE-8EFC4CE9624D}" type="slidenum">
              <a:rPr b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C501-8BB6-4C65-9488-467BDA32393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C2B7-8611-4A31-A981-27AAEB436A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9372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LES 3 PETITS COCHONS…</a:t>
            </a:r>
            <a:br>
              <a:rPr sz="4400"/>
            </a:b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FAIT À VOTRE STYLE!</a:t>
            </a:r>
            <a:endParaRPr b="0" lang="en-US" sz="4400" spc="-1" strike="noStrike">
              <a:solidFill>
                <a:srgbClr val="d2d2d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 proje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Vous allez écrire votre propre histoire de « Les trois petits cochons »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oyez aussi créatifs comme vous voulez, ou pouvez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Autre animal?  Personnage connu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Personnes?  Ados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Personnes célèbres?  Politiques?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Qui est le vilain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Tw Cen MT"/>
              </a:rPr>
              <a:t>Les tâches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371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crire une histoire avec un début, problème, et soluti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ncluez 15 mots de vocabulaire des pages 84,90, 91 (spécialement avec les descriptions des maisons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5 phrases avec le subjonctif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Utilisez la bonne grammai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s choix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owerPoi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Vidé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I-Vidé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?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s</a:t>
            </a:r>
            <a:r>
              <a:rPr b="0" lang="fr-FR" sz="4400" spc="-1" strike="noStrike">
                <a:solidFill>
                  <a:srgbClr val="666666"/>
                </a:solidFill>
                <a:latin typeface="Tw Cen MT"/>
              </a:rPr>
              <a:t> tâches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1752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Soyez créatifs et travaillez avec de l’effor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Créer une présentation qui suit l’histoire avec des photos intéressantes et des animations bien fait et approprié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Parlez avec de la bonne prononci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Soyez ponctuels avec la date!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S.V.P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w Cen MT"/>
              </a:rPr>
              <a:t>Quand vous présentez, donnez-moi un script pour que je puisse suivre l’histoire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w Cen MT"/>
              </a:rPr>
              <a:t>Merci et amusez-vous!!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http://4.bp.blogspot.com/_L2Ibg6ejNRc/SqVVPKfsN0I/AAAAAAAADB8/aSi_xTU84ZU/s320/thumbs+up+happy+face.jpg"/>
          <p:cNvPicPr/>
          <p:nvPr/>
        </p:nvPicPr>
        <p:blipFill>
          <a:blip r:embed="rId1"/>
          <a:stretch/>
        </p:blipFill>
        <p:spPr>
          <a:xfrm>
            <a:off x="6095880" y="350532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3:14:04Z</dcterms:created>
  <dc:creator>Lauren Mooney</dc:creator>
  <dc:description/>
  <dc:language>en-US</dc:language>
  <cp:lastModifiedBy>User</cp:lastModifiedBy>
  <dcterms:modified xsi:type="dcterms:W3CDTF">2009-11-19T13:48:29Z</dcterms:modified>
  <cp:revision>3</cp:revision>
  <dc:subject/>
  <dc:title>Les 3 petits cochons… fait à votre style!</dc:title>
</cp:coreProperties>
</file>